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8540B-52B4-4FFD-9538-112CBADE7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534F9-3D92-480D-BF15-F56FE1E74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15064-E7E6-482A-93B8-88E853FA1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02811-A411-4028-A661-2044D8875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141C8-A7AC-42C1-A93C-97AE2D222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42F93-A421-4C57-8BA0-9B676FE9E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FB2DF-90AA-4F84-BB04-380BFDF25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95360-0D1D-43D8-B8BC-4F2353879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E4FC7-0DCD-4F6B-AF59-932C1111E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F3901-FBF6-4D30-BDD8-71B24F5C1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14CAD-6C8A-49EF-8154-07E899A87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A0331-AF95-434A-994F-2E569BDB8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281F5-0AC8-4DA2-ACE3-EB7987CB3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563B4-B7C9-44A9-B90A-8CDBB7EC3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7D3B3-36AF-4B72-9631-4FD5ABEC2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77029-6A51-4CA8-B5B9-9FA2BCD3F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E6D09-9810-4CBE-86E7-E83843E54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60A44-2B44-46AD-A292-7E6C51A18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DEBEC-48AF-4E7B-8D4F-CE9A2007C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017F8-58C8-43F9-82F7-155F42513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B8127-1EC4-4D1E-A90A-3B0A71A5A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24C8C-40FA-4E9E-A174-F7EFF71B5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2164A-808D-48EB-B241-EBA4E4E63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A735B-A0DE-4B7D-BA05-CC578E8C8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68E9D-7394-4F82-A255-B2626C5C32B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D4030-8036-4600-811A-57A02CE8628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3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원의 권리•의무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의무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소극적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치 활동의 금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집단 행위의 제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영리업무 및 겸직금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권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광의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육을 받을 권리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육을 할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익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헌법의 교육의 기회를 균등하게 받을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친권적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모의 자녀에 대한 교육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위탁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가 교육할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제사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고등전문직으로서의 자유재량권 행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권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협의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윌슨의 저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반행정 당국으로부터 교육당국의 독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유로운 교육의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정의 제정 및 운영에의 참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당한 지배로부터의 자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학의 학문적 자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주적인 단체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란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는 어떻게 부여 받는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는 어떻게 지키는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언행일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위로서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통제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기술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급별에 따라서 교원의 권위는 달라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권위의 구성 요인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권위의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유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신수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통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합리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1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 자신의 내재적 권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덕적 사회적 성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2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외재적 요인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지적 이론적 측면에서의 수월성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3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제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의 요인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권위에 대한 학생의 태도와 심리적 경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크라테스는 왜 죽었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너 자신을 알라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악법도 법이다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우리의 권리와 의무는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신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정 직업인으로서 교사자격증을 가지고 정규 학교에서 학생들을 대상으로 교육활동을 하는 전문적인 직업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유치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초등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중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공민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기술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수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각종학교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&amp;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산업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방송통신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기술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각종학교 등의 공•사립의 모든 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설강습소와 직업훈련원은 아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종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등학교와 특수학교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직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와 직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원과 배치는 대통령령으로 정한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총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임강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예교수 추대는 대통령령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.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정직원과 조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치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정 교모 이하인 경우는 원감을 두지 않을 수 있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)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초등학교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&amp;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학교의 교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종류의 교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 자격 종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1, 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급 정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준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상담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서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건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기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 자격 종류는 직위가 아니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직교사는 업무 분장상의 보직 명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그러나 직위 또는 자격이 아니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적극적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적 교육활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극적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신분보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권침해 사항 방지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적극적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율성의 신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적 능력의 자율성 보장과 함께 사회적 책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치적 중립성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생활보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보수 수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p. 10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무조건 개선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급당 인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업 부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잡무 과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지•후생제도의 확충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연금체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녀학비 및 장학금 지급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무주택 교원 지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소극적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신분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쟁송제기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징계의 사유와 종류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. 118 &amp;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-11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이내에 재심 위원회에 재심 요청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연장 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6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이내에 행정 소송 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불체포특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행범이 아닐 경우에는 학교장의 동의 요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직단체 활동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의무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적극적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 및 연구활동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복종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품위 유지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밀엄수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9T02:25:13Z</dcterms:created>
  <dc:creator>XPuser</dc:creator>
  <dc:description/>
  <dc:language>en-US</dc:language>
  <cp:lastModifiedBy>staff</cp:lastModifiedBy>
  <dcterms:modified xsi:type="dcterms:W3CDTF">2008-10-10T05:14:04Z</dcterms:modified>
  <cp:revision>8</cp:revision>
  <dc:subject/>
  <dc:title>제 3장 교원의 권리•의무</dc:title>
</cp:coreProperties>
</file>